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E11-E5F9-4694-8F96-E6FAD597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5FC-8C9F-4F8A-8FC9-0A55F4C9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109-4A1C-4FEC-BA99-5F1BE6D6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0C4-26A9-4647-A468-27396A44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98B-77C9-4D62-9DA1-FB3BC5CC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0DA-8CB4-4401-B575-CC866118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BE0-D174-4468-B7F2-DF46BC4A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ADC-1BE5-40BA-97D6-7B4AE9B5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E19-A76C-474E-AD8A-29CB4E69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A44-0E1D-4C8C-8F30-4080DC42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8C8-C7D6-4639-8DBE-18B16651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62D-C9D9-4027-907A-014D8DD3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7CB1-B152-4425-A8AB-8C392CFB4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urlz MT"/>
              </a:rPr>
              <a:t>Spring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By Miss Woodr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Weath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April showers bring May flow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New Lif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Spor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urlz MT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8:36:15Z</dcterms:created>
  <dc:creator>WL</dc:creator>
  <dc:description/>
  <dc:language>en-US</dc:language>
  <cp:lastModifiedBy>CNCSC</cp:lastModifiedBy>
  <dcterms:modified xsi:type="dcterms:W3CDTF">2003-03-25T16:10:38Z</dcterms:modified>
  <cp:revision>3</cp:revision>
  <dc:subject/>
  <dc:title>Spring</dc:title>
</cp:coreProperties>
</file>